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96AE-D3F8-455F-A102-BB7554C32F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422D1-84A2-4E88-AE3D-1A2EA6C7C03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8050-2325-4EC5-BBDD-16A03D7E3DA1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1D40-B40D-4609-8872-4EC34476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C434-60F2-4F2E-BBD1-96E50BFD5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437F9-039C-4F5D-9C87-5629F51A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06CF3-4F62-48BE-9DA1-208A8CAA0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5DF9E-BFA3-4F3A-B2F9-B8D6B8496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D3856D-0228-4901-8076-02CD9CFA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EC2C25-7483-43F7-BF26-AAE996617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D68A0C-EFAF-4151-A75C-C05C525F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2DB8C-2D5E-404E-8604-1495B5ED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AAAE9-CAD6-438E-BEE6-8409654DE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A6C54-941F-401E-B542-330486B73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40B889-5E36-4FF2-A663-EC7DEF527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4B6D-A825-449F-995F-62FAEDFF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28429-B1D1-492F-89D9-26D0F44A9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B7A7D1-9E48-475E-A2A4-5D6469E92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D184B4-178E-4A0B-B25C-7CAD39809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79109-153A-4758-A2FB-995321A8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7B9E4-6D9A-48F7-858F-6B41D484D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E1C94E-1B5D-4DF9-B018-1EFB5607B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C545D-8650-4ECC-B85F-966C2B97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1F641B-50CA-4002-80B9-73D529904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B1CC78-A5C4-4AF0-844F-9C98B5F5D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F79F86-5718-45E7-B834-502DD104D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A832-5764-452A-A1B7-479943F1B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81C579-248B-4A59-B7E9-62697BAD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F4A5E-FD08-4F55-8FA5-4A1F9DA6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1CE84A-E272-4599-93BC-72A2BAB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D8062-3646-4292-9DC7-A884841EE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7A1B8D-D112-4214-A375-4C4BD9D5B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142D52-CD2A-4CC4-BE11-86EAD814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1C6F34-5F9D-4845-BDF3-81F6F984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DD63A-8859-4932-989B-DBAFEFEA1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6BAAB2-08D2-4091-BA96-8595EA079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3BA6BE-43A9-4BFB-9947-5DC8F3B9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1966-9270-479A-94DD-5A5A11ACB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049CD3-5E81-4134-B946-C38C13199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7D2EC-8151-4B71-981B-C13C607E3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14AA96-7E00-46B8-B4D2-102073FB1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5B6066-3776-4092-BAF0-B3E77449C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7FC1AF-2249-4FDE-924B-81196B791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D99D3-4307-4B50-A48E-29C2BC19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6D2E1-920A-477E-9308-ED0D33514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BD31CC-CBEB-47CE-9A45-3D4F2D6B2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858AA5-C1F5-4BD9-B0D6-169224A6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EC26740-DE0D-4D6C-AA68-25CECEEAB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DEEB6-1F87-4ACA-A344-D546C8F31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6C9DF5-B712-42C7-B36B-334729B0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E4B06E-06D3-46DE-95E5-CBCDE2F95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924503-8770-435A-8352-D7507EE5D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DC9688-97B6-473C-8C47-F57EF255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62F170-A493-41FE-9F28-A8EB40BE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65834-A088-491E-B867-2E8CB1A44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230E5-1197-4B4F-A558-278A125D3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E6454-C51E-4B1D-AD50-4793AB91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84686-DA15-4DE4-B1DA-42E7FE26B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1A89-7597-49D1-844B-8550290BC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6859B-8DC7-457C-8E24-AC5CC4469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AFFC1-1D52-467B-90B0-19F15A154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A7A30-1D64-4FF4-884A-498A42947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18F3-F4EC-4CD7-8F7B-4D3E0BCA9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8F771-9E73-4910-B2CD-1E568738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EE69E-7F69-4365-A1FD-453C9A0A2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AAA97-A999-4070-BC47-562BF0BAD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46B568-283D-4F80-AD09-3B233B5C8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B8C03-9756-4418-87ED-253DE75EE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DDA06-54D1-4DA4-BA8D-125AEEB7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60FB81-6D68-447A-9A8A-6B4420C5F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0CE6-E354-4E72-B68D-BBAF9D0D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21FBD3-F211-42EB-A588-4ED5D536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03145-6249-4E62-875F-45BF20702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A4A3F-A08E-46EC-9D2B-8C298D986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7EFA55-A2C7-4531-BED1-7542A0D7A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8039B-5926-477C-865E-8BDEF8A0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34027-6117-418E-BF69-C2C997475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8E978-3A55-4D75-A571-0EF52898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82E294-31B5-42DE-BC9F-99C7345B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0D98B-1F96-46CB-AA5E-8905D565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268B8-21B0-41DA-8E95-D9EA012EA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7C25-EF35-42CF-B07C-3E7AFE35A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6F6D4-4AC7-4BBF-999D-1E518B46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26B4B-1A04-4872-A0B8-CFB3FC77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54423A-DD4D-4C2F-AD2C-5D4B0BE21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3373F2-08FC-482C-84C2-876F64ED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23E654-0B2F-44BE-9929-52579214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AC0A8-269F-4670-B16F-4F3C4E0B1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A9829-B3D8-4BBC-88BC-945BD8C4C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02A01-328D-46F6-8B6E-1700A3918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0DDB3-6C5D-4D45-896F-C65FD4613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6D3B8-BC57-43CF-AF03-E4B4F9342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8D32-4024-4D79-AC82-0C4BF4B4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107B6-A468-48EB-AD6D-4E565D20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17AA8-EB14-430D-B58C-F26421F18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CDB7CE-7AAC-4C42-9F98-9F01209FF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CB43F-033D-4400-9DDE-FBC9794E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369B-EE5D-4E8A-858E-14E773FCD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661802-B9EA-4889-AF82-59E44D56C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9E54FA-FF9B-4ADC-B8FE-B9C9E4515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C60C4-2E1D-47B8-903A-F77AFEAA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CE6894-D70D-4E46-90F0-6BEA2DAD0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3E72C-D9B3-47D2-8F7E-8729D126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6CC1-1C5E-4E6D-A8DF-712E34C82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52CF4-2DF3-4B32-BDF8-33EE171F3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CB59D5-EA00-468F-A52B-F9F7FE528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E1D17A-2A40-4B37-B6A1-2AB89C069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FF767-0C1C-4F2F-B1C0-11243994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88ADC5-C172-4768-9309-7776B0A4D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947403-0059-4422-8D99-91ADD612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394766-0996-4AFA-980F-D22E9953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92012-BC21-4B93-9795-1EAE9FBB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F21477-A6B9-4B07-8113-305287D1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FB6E6-EE7A-4B6F-9E64-38501EE6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F873-A332-4AB9-9C0C-39F03D19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D5660E-C788-4D5E-AEDF-75C20391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65BA7B-714D-4EE2-8036-EEAE6D54B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38D996-27C0-4FBE-9C10-A41D63F93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D50A7-2740-4AF3-8A4E-14022B57A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5B420-ABE7-460F-93F7-9F054B17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B59A5-8B12-4305-A8A5-0061B45BF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6A2F0-4032-4B20-B20E-95CE4C190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2ECA12-AC9B-45A7-A8E2-19C974D7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205A42-45EE-4A1E-9AD8-16A24E849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9232AC-6C4C-4380-8A63-109961CFA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CD72-0D46-4811-B0F7-A48566075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9F5BC1-3CB8-4CE5-BD7D-03D0B2D4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278287-8055-4E1D-88F9-9A32DD42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EC660E-25DB-4AF1-BF77-C6F988B02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1446A-68B8-4136-8334-5466F3005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58DEA-7DB2-43AE-9F6B-CB91330A5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4E6557-FAEA-4DB1-9A6E-576654F53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DD3C37-0258-4176-B70F-2E1F42B7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7C1B7-CA37-40FC-B63A-4F319AC6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DD58D-A78F-4EBA-9AB1-509D7606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57DF6C-7247-4362-AA43-F54E03882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17B-0253-45DD-BDB7-45E67410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ubTitle"/>
          </p:nvPr>
        </p:nvSpPr>
        <p:spPr>
          <a:xfrm>
            <a:off x="1422000" y="6388200"/>
            <a:ext cx="5321520" cy="113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3C937-A0C9-4B49-93F1-6A2E4FF7A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24B2A4-9AA1-46E2-A065-84C404241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A0B052-8E16-482F-A9E7-7DA88AF1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1BEF9-591E-4B1E-BC50-C02C28C0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76920" y="3489120"/>
            <a:ext cx="670248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9D35B8-6213-4DF8-9728-78D8F5757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8311320" y="9907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8769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/>
          </p:nvPr>
        </p:nvSpPr>
        <p:spPr>
          <a:xfrm>
            <a:off x="8311320" y="3489120"/>
            <a:ext cx="327060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22A676-3ED3-43D9-B900-6CC611DD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71431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9409320" y="9907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769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2" name="PlaceHolder 6"/>
          <p:cNvSpPr>
            <a:spLocks noGrp="1"/>
          </p:cNvSpPr>
          <p:nvPr>
            <p:ph/>
          </p:nvPr>
        </p:nvSpPr>
        <p:spPr>
          <a:xfrm>
            <a:off x="71431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63" name="PlaceHolder 7"/>
          <p:cNvSpPr>
            <a:spLocks noGrp="1"/>
          </p:cNvSpPr>
          <p:nvPr>
            <p:ph/>
          </p:nvPr>
        </p:nvSpPr>
        <p:spPr>
          <a:xfrm>
            <a:off x="9409320" y="3489120"/>
            <a:ext cx="2157840" cy="228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ED5B2B-5F53-40CB-B698-37D93ECDC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0F3AB1-848F-4E72-843D-403372E5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328205-DB8E-4817-827D-9D69F9CC8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422000" y="638820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8AD2A1-B591-4CC5-A07C-6551F754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550440" y="6095520"/>
            <a:ext cx="2031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07C59-E579-4125-867D-39B013ECAF5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5384520" y="6095520"/>
            <a:ext cx="4165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950400" y="5317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CB17-E126-460F-A76F-74350DC772B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11" name="Rounded Rectangle 14"/>
          <p:cNvSpPr/>
          <p:nvPr/>
        </p:nvSpPr>
        <p:spPr>
          <a:xfrm rot="900000">
            <a:off x="-711360" y="-979200"/>
            <a:ext cx="8896680" cy="6821640"/>
          </a:xfrm>
          <a:custGeom>
            <a:avLst/>
            <a:gdLst/>
            <a:ahLst/>
            <a:rect l="l" t="t" r="r" b="b"/>
            <a:pathLst>
              <a:path w="6672870" h="6821601">
                <a:moveTo>
                  <a:pt x="0" y="1787990"/>
                </a:moveTo>
                <a:lnTo>
                  <a:pt x="6672870" y="0"/>
                </a:lnTo>
                <a:lnTo>
                  <a:pt x="6672870" y="6739511"/>
                </a:lnTo>
                <a:cubicBezTo>
                  <a:pt x="6672870" y="6784848"/>
                  <a:pt x="6636117" y="6821601"/>
                  <a:pt x="6590780" y="6821601"/>
                </a:cubicBezTo>
                <a:lnTo>
                  <a:pt x="1348753" y="6821601"/>
                </a:lnTo>
                <a:lnTo>
                  <a:pt x="0" y="178799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Rounded Rectangle 15"/>
          <p:cNvSpPr/>
          <p:nvPr/>
        </p:nvSpPr>
        <p:spPr>
          <a:xfrm rot="900000">
            <a:off x="-378000" y="5969160"/>
            <a:ext cx="7066080" cy="1496880"/>
          </a:xfrm>
          <a:custGeom>
            <a:avLst/>
            <a:gdLst/>
            <a:ahLst/>
            <a:rect l="l" t="t" r="r" b="b"/>
            <a:pathLst>
              <a:path w="5300494" h="1495954">
                <a:moveTo>
                  <a:pt x="0" y="0"/>
                </a:moveTo>
                <a:lnTo>
                  <a:pt x="5218404" y="0"/>
                </a:lnTo>
                <a:cubicBezTo>
                  <a:pt x="5263741" y="0"/>
                  <a:pt x="5300494" y="36753"/>
                  <a:pt x="5300494" y="82090"/>
                </a:cubicBezTo>
                <a:lnTo>
                  <a:pt x="5300494" y="183095"/>
                </a:lnTo>
                <a:lnTo>
                  <a:pt x="400840" y="149595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Rounded Rectangle 16"/>
          <p:cNvSpPr/>
          <p:nvPr/>
        </p:nvSpPr>
        <p:spPr>
          <a:xfrm rot="900000">
            <a:off x="9240480" y="-243000"/>
            <a:ext cx="3244680" cy="1384560"/>
          </a:xfrm>
          <a:custGeom>
            <a:avLst/>
            <a:gdLst/>
            <a:ahLst/>
            <a:rect l="l" t="t" r="r" b="b"/>
            <a:pathLst>
              <a:path w="2434235" h="1383623">
                <a:moveTo>
                  <a:pt x="0" y="552912"/>
                </a:moveTo>
                <a:lnTo>
                  <a:pt x="2063495" y="0"/>
                </a:lnTo>
                <a:lnTo>
                  <a:pt x="2434235" y="1383623"/>
                </a:lnTo>
                <a:lnTo>
                  <a:pt x="82090" y="1383622"/>
                </a:lnTo>
                <a:cubicBezTo>
                  <a:pt x="36754" y="1383622"/>
                  <a:pt x="0" y="1346869"/>
                  <a:pt x="0" y="1301533"/>
                </a:cubicBezTo>
                <a:lnTo>
                  <a:pt x="0" y="552912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Rounded Rectangle 17"/>
          <p:cNvSpPr/>
          <p:nvPr/>
        </p:nvSpPr>
        <p:spPr>
          <a:xfrm rot="900000">
            <a:off x="7865640" y="1282320"/>
            <a:ext cx="5124600" cy="6178680"/>
          </a:xfrm>
          <a:custGeom>
            <a:avLst/>
            <a:gdLst/>
            <a:ahLst/>
            <a:rect l="l" t="t" r="r" b="b"/>
            <a:pathLst>
              <a:path w="3842742" h="617845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463128" y="0"/>
                </a:lnTo>
                <a:lnTo>
                  <a:pt x="3842742" y="5148790"/>
                </a:lnTo>
                <a:lnTo>
                  <a:pt x="0" y="6178450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8"/>
          </p:nvPr>
        </p:nvSpPr>
        <p:spPr>
          <a:xfrm rot="900000">
            <a:off x="9322560" y="571680"/>
            <a:ext cx="2032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C1F9-8DE7-4717-8595-258ED00CD02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29"/>
          </p:nvPr>
        </p:nvSpPr>
        <p:spPr>
          <a:xfrm rot="900000">
            <a:off x="863280" y="5162040"/>
            <a:ext cx="39686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0"/>
          </p:nvPr>
        </p:nvSpPr>
        <p:spPr>
          <a:xfrm rot="900000">
            <a:off x="9394200" y="390240"/>
            <a:ext cx="2617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0EFD7-44D4-4D49-AD22-A6DCB1D4AF0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57" name="Rounded Rectangle 11"/>
          <p:cNvSpPr/>
          <p:nvPr/>
        </p:nvSpPr>
        <p:spPr>
          <a:xfrm rot="20707200">
            <a:off x="-1193760" y="-766440"/>
            <a:ext cx="11109240" cy="5894280"/>
          </a:xfrm>
          <a:custGeom>
            <a:avLst/>
            <a:gdLst/>
            <a:ahLst/>
            <a:rect l="l" t="t" r="r" b="b"/>
            <a:pathLst>
              <a:path w="8332816" h="5894380">
                <a:moveTo>
                  <a:pt x="1565164" y="0"/>
                </a:moveTo>
                <a:lnTo>
                  <a:pt x="8332816" y="1797049"/>
                </a:lnTo>
                <a:lnTo>
                  <a:pt x="8332816" y="5812290"/>
                </a:lnTo>
                <a:cubicBezTo>
                  <a:pt x="8332816" y="5857627"/>
                  <a:pt x="8296063" y="5894380"/>
                  <a:pt x="8250726" y="5894380"/>
                </a:cubicBezTo>
                <a:lnTo>
                  <a:pt x="0" y="5894380"/>
                </a:lnTo>
                <a:lnTo>
                  <a:pt x="1565164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Rounded Rectangle 12"/>
          <p:cNvSpPr/>
          <p:nvPr/>
        </p:nvSpPr>
        <p:spPr>
          <a:xfrm rot="20707200">
            <a:off x="85320" y="5089320"/>
            <a:ext cx="11371320" cy="2911320"/>
          </a:xfrm>
          <a:custGeom>
            <a:avLst/>
            <a:gdLst/>
            <a:ahLst/>
            <a:rect l="l" t="t" r="r" b="b"/>
            <a:pathLst>
              <a:path w="8528044" h="2911464">
                <a:moveTo>
                  <a:pt x="8477907" y="6451"/>
                </a:moveTo>
                <a:cubicBezTo>
                  <a:pt x="8507371" y="18913"/>
                  <a:pt x="8528044" y="48087"/>
                  <a:pt x="8528044" y="82090"/>
                </a:cubicBezTo>
                <a:lnTo>
                  <a:pt x="8528044" y="2911464"/>
                </a:lnTo>
                <a:lnTo>
                  <a:pt x="0" y="646970"/>
                </a:lnTo>
                <a:lnTo>
                  <a:pt x="171794" y="0"/>
                </a:lnTo>
                <a:lnTo>
                  <a:pt x="8445954" y="0"/>
                </a:lnTo>
                <a:cubicBezTo>
                  <a:pt x="8457288" y="0"/>
                  <a:pt x="8468086" y="2297"/>
                  <a:pt x="8477907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9" name="Rounded Rectangle 13"/>
          <p:cNvSpPr/>
          <p:nvPr/>
        </p:nvSpPr>
        <p:spPr>
          <a:xfrm rot="20707200">
            <a:off x="11379240" y="3839760"/>
            <a:ext cx="1347840" cy="2994120"/>
          </a:xfrm>
          <a:custGeom>
            <a:avLst/>
            <a:gdLst/>
            <a:ahLst/>
            <a:rect l="l" t="t" r="r" b="b"/>
            <a:pathLst>
              <a:path w="1011244" h="2994350">
                <a:moveTo>
                  <a:pt x="1011244" y="0"/>
                </a:moveTo>
                <a:lnTo>
                  <a:pt x="216140" y="2994350"/>
                </a:lnTo>
                <a:lnTo>
                  <a:pt x="0" y="2936957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01124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0" name="Rounded Rectangle 14"/>
          <p:cNvSpPr/>
          <p:nvPr/>
        </p:nvSpPr>
        <p:spPr>
          <a:xfrm rot="20707200">
            <a:off x="10118880" y="-321840"/>
            <a:ext cx="2635200" cy="4073400"/>
          </a:xfrm>
          <a:custGeom>
            <a:avLst/>
            <a:gdLst/>
            <a:ahLst/>
            <a:rect l="l" t="t" r="r" b="b"/>
            <a:pathLst>
              <a:path w="1976541" h="4072806">
                <a:moveTo>
                  <a:pt x="0" y="0"/>
                </a:moveTo>
                <a:lnTo>
                  <a:pt x="1976541" y="524841"/>
                </a:lnTo>
                <a:lnTo>
                  <a:pt x="1034432" y="4072806"/>
                </a:lnTo>
                <a:lnTo>
                  <a:pt x="82090" y="4072806"/>
                </a:lnTo>
                <a:cubicBezTo>
                  <a:pt x="36753" y="4072806"/>
                  <a:pt x="0" y="4036053"/>
                  <a:pt x="0" y="3990716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 type="dt" idx="31"/>
          </p:nvPr>
        </p:nvSpPr>
        <p:spPr>
          <a:xfrm rot="20700000">
            <a:off x="9328320" y="623880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1D999-361F-480D-AEAD-63B2C27CFA5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 type="ftr" idx="32"/>
          </p:nvPr>
        </p:nvSpPr>
        <p:spPr>
          <a:xfrm rot="20700000">
            <a:off x="7095960" y="6094440"/>
            <a:ext cx="416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 type="sldNum" idx="33"/>
          </p:nvPr>
        </p:nvSpPr>
        <p:spPr>
          <a:xfrm rot="20700000">
            <a:off x="10910520" y="3246120"/>
            <a:ext cx="1209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7C13D-C65E-4B53-A838-9F5D11BA2752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3" name="Rounded Rectangle 11"/>
          <p:cNvSpPr/>
          <p:nvPr/>
        </p:nvSpPr>
        <p:spPr>
          <a:xfrm rot="20707200">
            <a:off x="-1177560" y="-625320"/>
            <a:ext cx="9920160" cy="7346880"/>
          </a:xfrm>
          <a:custGeom>
            <a:avLst/>
            <a:gdLst/>
            <a:ahLst/>
            <a:rect l="l" t="t" r="r" b="b"/>
            <a:pathLst>
              <a:path w="7440156" h="7347127">
                <a:moveTo>
                  <a:pt x="1760047" y="0"/>
                </a:moveTo>
                <a:lnTo>
                  <a:pt x="7440156" y="1508269"/>
                </a:lnTo>
                <a:lnTo>
                  <a:pt x="7440156" y="7265037"/>
                </a:lnTo>
                <a:cubicBezTo>
                  <a:pt x="7440156" y="7310374"/>
                  <a:pt x="7403403" y="7347127"/>
                  <a:pt x="7358066" y="7347127"/>
                </a:cubicBezTo>
                <a:lnTo>
                  <a:pt x="2707078" y="7347127"/>
                </a:lnTo>
                <a:lnTo>
                  <a:pt x="0" y="6628304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4" name="Rounded Rectangle 12"/>
          <p:cNvSpPr/>
          <p:nvPr/>
        </p:nvSpPr>
        <p:spPr>
          <a:xfrm rot="20707200">
            <a:off x="4303440" y="6273720"/>
            <a:ext cx="5860800" cy="1168560"/>
          </a:xfrm>
          <a:custGeom>
            <a:avLst/>
            <a:gdLst/>
            <a:ahLst/>
            <a:rect l="l" t="t" r="r" b="b"/>
            <a:pathLst>
              <a:path w="4396677" h="1167472">
                <a:moveTo>
                  <a:pt x="4346539" y="6451"/>
                </a:moveTo>
                <a:cubicBezTo>
                  <a:pt x="4376003" y="18913"/>
                  <a:pt x="4396677" y="48087"/>
                  <a:pt x="4396677" y="82090"/>
                </a:cubicBezTo>
                <a:lnTo>
                  <a:pt x="4396677" y="1167472"/>
                </a:lnTo>
                <a:lnTo>
                  <a:pt x="0" y="0"/>
                </a:lnTo>
                <a:lnTo>
                  <a:pt x="4314586" y="0"/>
                </a:lnTo>
                <a:cubicBezTo>
                  <a:pt x="4325920" y="0"/>
                  <a:pt x="4336718" y="2297"/>
                  <a:pt x="4346539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Rounded Rectangle 13"/>
          <p:cNvSpPr/>
          <p:nvPr/>
        </p:nvSpPr>
        <p:spPr>
          <a:xfrm rot="20707200">
            <a:off x="10212480" y="5459040"/>
            <a:ext cx="2281320" cy="1538280"/>
          </a:xfrm>
          <a:custGeom>
            <a:avLst/>
            <a:gdLst/>
            <a:ahLst/>
            <a:rect l="l" t="t" r="r" b="b"/>
            <a:pathLst>
              <a:path w="1710569" h="1538689">
                <a:moveTo>
                  <a:pt x="1710569" y="1"/>
                </a:moveTo>
                <a:lnTo>
                  <a:pt x="1301993" y="1538689"/>
                </a:lnTo>
                <a:lnTo>
                  <a:pt x="0" y="1192965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10569" y="1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Rounded Rectangle 14"/>
          <p:cNvSpPr/>
          <p:nvPr/>
        </p:nvSpPr>
        <p:spPr>
          <a:xfrm rot="20707200">
            <a:off x="8888400" y="-490320"/>
            <a:ext cx="4087800" cy="5811840"/>
          </a:xfrm>
          <a:custGeom>
            <a:avLst/>
            <a:gdLst/>
            <a:ahLst/>
            <a:rect l="l" t="t" r="r" b="b"/>
            <a:pathLst>
              <a:path w="3065776" h="5811871">
                <a:moveTo>
                  <a:pt x="0" y="0"/>
                </a:moveTo>
                <a:lnTo>
                  <a:pt x="3065776" y="814071"/>
                </a:lnTo>
                <a:lnTo>
                  <a:pt x="1738684" y="5811871"/>
                </a:lnTo>
                <a:lnTo>
                  <a:pt x="82090" y="5811871"/>
                </a:lnTo>
                <a:cubicBezTo>
                  <a:pt x="36753" y="5811871"/>
                  <a:pt x="0" y="5775118"/>
                  <a:pt x="0" y="5729781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 type="dt" idx="34"/>
          </p:nvPr>
        </p:nvSpPr>
        <p:spPr>
          <a:xfrm rot="20700000">
            <a:off x="10338840" y="5888160"/>
            <a:ext cx="165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5BDD0-A7DC-4647-B39A-60F37C845E2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 type="ftr" idx="35"/>
          </p:nvPr>
        </p:nvSpPr>
        <p:spPr>
          <a:xfrm rot="20700000">
            <a:off x="6663960" y="6187680"/>
            <a:ext cx="3173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 type="sldNum" idx="36"/>
          </p:nvPr>
        </p:nvSpPr>
        <p:spPr>
          <a:xfrm rot="20700000">
            <a:off x="10253160" y="5641560"/>
            <a:ext cx="16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BAB7B-2E30-499B-8019-C8EA2DD3D5A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Rounded Rectangle 9"/>
          <p:cNvSpPr/>
          <p:nvPr/>
        </p:nvSpPr>
        <p:spPr>
          <a:xfrm rot="20707200">
            <a:off x="-823680" y="-652320"/>
            <a:ext cx="8886960" cy="3943080"/>
          </a:xfrm>
          <a:custGeom>
            <a:avLst/>
            <a:gdLst/>
            <a:ahLst/>
            <a:rect l="l" t="t" r="r" b="b"/>
            <a:pathLst>
              <a:path w="6664606" h="3942692">
                <a:moveTo>
                  <a:pt x="1046923" y="0"/>
                </a:moveTo>
                <a:lnTo>
                  <a:pt x="6664606" y="1491692"/>
                </a:lnTo>
                <a:lnTo>
                  <a:pt x="6664606" y="3860602"/>
                </a:lnTo>
                <a:cubicBezTo>
                  <a:pt x="6664606" y="3905939"/>
                  <a:pt x="6627853" y="3942692"/>
                  <a:pt x="6582516" y="3942692"/>
                </a:cubicBezTo>
                <a:lnTo>
                  <a:pt x="0" y="3942692"/>
                </a:lnTo>
                <a:lnTo>
                  <a:pt x="1046923" y="0"/>
                </a:lnTo>
                <a:close/>
              </a:path>
            </a:pathLst>
          </a:custGeom>
          <a:solidFill>
            <a:srgbClr val="000000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Rounded Rectangle 11"/>
          <p:cNvSpPr/>
          <p:nvPr/>
        </p:nvSpPr>
        <p:spPr>
          <a:xfrm rot="20707200">
            <a:off x="8224560" y="-441000"/>
            <a:ext cx="4168800" cy="2425680"/>
          </a:xfrm>
          <a:custGeom>
            <a:avLst/>
            <a:gdLst/>
            <a:ahLst/>
            <a:rect l="l" t="t" r="r" b="b"/>
            <a:pathLst>
              <a:path w="3126510" h="2426476">
                <a:moveTo>
                  <a:pt x="0" y="0"/>
                </a:moveTo>
                <a:lnTo>
                  <a:pt x="3126510" y="830198"/>
                </a:lnTo>
                <a:lnTo>
                  <a:pt x="2702642" y="2426476"/>
                </a:lnTo>
                <a:lnTo>
                  <a:pt x="82091" y="2426476"/>
                </a:lnTo>
                <a:cubicBezTo>
                  <a:pt x="36754" y="2426475"/>
                  <a:pt x="1" y="2389722"/>
                  <a:pt x="1" y="2344385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Rounded Rectangle 10"/>
          <p:cNvSpPr/>
          <p:nvPr/>
        </p:nvSpPr>
        <p:spPr>
          <a:xfrm rot="20707200">
            <a:off x="9524880" y="2001960"/>
            <a:ext cx="3573720" cy="4944960"/>
          </a:xfrm>
          <a:custGeom>
            <a:avLst/>
            <a:gdLst/>
            <a:ahLst/>
            <a:rect l="l" t="t" r="r" b="b"/>
            <a:pathLst>
              <a:path w="2679455" h="4946037">
                <a:moveTo>
                  <a:pt x="2679455" y="0"/>
                </a:moveTo>
                <a:lnTo>
                  <a:pt x="1366108" y="4946037"/>
                </a:lnTo>
                <a:lnTo>
                  <a:pt x="0" y="4583288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2679455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Rounded Rectangle 8"/>
          <p:cNvSpPr/>
          <p:nvPr/>
        </p:nvSpPr>
        <p:spPr>
          <a:xfrm rot="20707200">
            <a:off x="-274320" y="3322800"/>
            <a:ext cx="9837720" cy="4557600"/>
          </a:xfrm>
          <a:custGeom>
            <a:avLst/>
            <a:gdLst/>
            <a:ahLst/>
            <a:rect l="l" t="t" r="r" b="b"/>
            <a:pathLst>
              <a:path w="7378073" h="4557796">
                <a:moveTo>
                  <a:pt x="7327936" y="6451"/>
                </a:moveTo>
                <a:cubicBezTo>
                  <a:pt x="7357400" y="18913"/>
                  <a:pt x="7378073" y="48087"/>
                  <a:pt x="7378073" y="82090"/>
                </a:cubicBezTo>
                <a:lnTo>
                  <a:pt x="7378073" y="4557796"/>
                </a:lnTo>
                <a:lnTo>
                  <a:pt x="0" y="2598658"/>
                </a:lnTo>
                <a:lnTo>
                  <a:pt x="690034" y="0"/>
                </a:lnTo>
                <a:lnTo>
                  <a:pt x="7295983" y="0"/>
                </a:lnTo>
                <a:cubicBezTo>
                  <a:pt x="7307317" y="0"/>
                  <a:pt x="7318115" y="2297"/>
                  <a:pt x="7327936" y="6451"/>
                </a:cubicBez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 rot="20700000">
            <a:off x="8988480" y="231300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4E9E6-52A2-436C-938C-88A40EE0597D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 rot="20700000">
            <a:off x="8733600" y="1528920"/>
            <a:ext cx="328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 rot="20700000">
            <a:off x="8602200" y="1162080"/>
            <a:ext cx="2845080" cy="42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BC1E-621E-4F7C-911C-1EFDF42DFBB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ounded Rectangle 8"/>
          <p:cNvSpPr/>
          <p:nvPr/>
        </p:nvSpPr>
        <p:spPr>
          <a:xfrm rot="907200">
            <a:off x="-1154160" y="850680"/>
            <a:ext cx="482112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Rounded Rectangle 12"/>
          <p:cNvSpPr/>
          <p:nvPr/>
        </p:nvSpPr>
        <p:spPr>
          <a:xfrm rot="907200">
            <a:off x="23400" y="-510840"/>
            <a:ext cx="497988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Rounded Rectangle 13"/>
          <p:cNvSpPr/>
          <p:nvPr/>
        </p:nvSpPr>
        <p:spPr>
          <a:xfrm rot="907200">
            <a:off x="2862000" y="6589800"/>
            <a:ext cx="26416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Rounded Rectangle 14"/>
          <p:cNvSpPr/>
          <p:nvPr/>
        </p:nvSpPr>
        <p:spPr>
          <a:xfrm rot="907200">
            <a:off x="4246200" y="-553680"/>
            <a:ext cx="904392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 rot="900000">
            <a:off x="2253960" y="608040"/>
            <a:ext cx="238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323A-4C26-4825-AC23-8C1597F670C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 rot="900000">
            <a:off x="4137840" y="6176880"/>
            <a:ext cx="31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 rot="900000">
            <a:off x="1687320" y="299160"/>
            <a:ext cx="3049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3B778-5903-4773-89BE-6F3EC7EF6B3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Rounded Rectangle 16"/>
          <p:cNvSpPr/>
          <p:nvPr/>
        </p:nvSpPr>
        <p:spPr>
          <a:xfrm rot="900000">
            <a:off x="-75960" y="-1017720"/>
            <a:ext cx="9882360" cy="3438720"/>
          </a:xfrm>
          <a:custGeom>
            <a:avLst/>
            <a:gdLst/>
            <a:ahLst/>
            <a:rect l="l" t="t" r="r" b="b"/>
            <a:pathLst>
              <a:path w="7411427" h="3438177">
                <a:moveTo>
                  <a:pt x="0" y="1985886"/>
                </a:moveTo>
                <a:lnTo>
                  <a:pt x="7411427" y="0"/>
                </a:lnTo>
                <a:lnTo>
                  <a:pt x="7411427" y="3356087"/>
                </a:lnTo>
                <a:cubicBezTo>
                  <a:pt x="7411427" y="3401424"/>
                  <a:pt x="7374674" y="3438177"/>
                  <a:pt x="7329337" y="3438177"/>
                </a:cubicBezTo>
                <a:lnTo>
                  <a:pt x="389140" y="3438177"/>
                </a:lnTo>
                <a:lnTo>
                  <a:pt x="0" y="1985886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Rounded Rectangle 17"/>
          <p:cNvSpPr/>
          <p:nvPr/>
        </p:nvSpPr>
        <p:spPr>
          <a:xfrm rot="900000">
            <a:off x="-1034640" y="2417400"/>
            <a:ext cx="9331200" cy="5079960"/>
          </a:xfrm>
          <a:custGeom>
            <a:avLst/>
            <a:gdLst/>
            <a:ahLst/>
            <a:rect l="l" t="t" r="r" b="b"/>
            <a:pathLst>
              <a:path w="6998365" h="5080081">
                <a:moveTo>
                  <a:pt x="0" y="0"/>
                </a:moveTo>
                <a:lnTo>
                  <a:pt x="6916275" y="0"/>
                </a:lnTo>
                <a:cubicBezTo>
                  <a:pt x="6961612" y="0"/>
                  <a:pt x="6998365" y="36753"/>
                  <a:pt x="6998365" y="82090"/>
                </a:cubicBezTo>
                <a:lnTo>
                  <a:pt x="6998365" y="3569608"/>
                </a:lnTo>
                <a:lnTo>
                  <a:pt x="1361203" y="5080081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Rounded Rectangle 18"/>
          <p:cNvSpPr/>
          <p:nvPr/>
        </p:nvSpPr>
        <p:spPr>
          <a:xfrm rot="900000">
            <a:off x="8449920" y="3774960"/>
            <a:ext cx="4137120" cy="3544920"/>
          </a:xfrm>
          <a:custGeom>
            <a:avLst/>
            <a:gdLst/>
            <a:ahLst/>
            <a:rect l="l" t="t" r="r" b="b"/>
            <a:pathLst>
              <a:path w="3102275" h="3544033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2375388" y="0"/>
                </a:lnTo>
                <a:lnTo>
                  <a:pt x="3102275" y="2712781"/>
                </a:lnTo>
                <a:lnTo>
                  <a:pt x="0" y="3544033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Rounded Rectangle 19"/>
          <p:cNvSpPr/>
          <p:nvPr/>
        </p:nvSpPr>
        <p:spPr>
          <a:xfrm rot="900000">
            <a:off x="9771120" y="-104760"/>
            <a:ext cx="3133800" cy="3821040"/>
          </a:xfrm>
          <a:custGeom>
            <a:avLst/>
            <a:gdLst/>
            <a:ahLst/>
            <a:rect l="l" t="t" r="r" b="b"/>
            <a:pathLst>
              <a:path w="2350627" h="3820866">
                <a:moveTo>
                  <a:pt x="1" y="355523"/>
                </a:moveTo>
                <a:lnTo>
                  <a:pt x="1326829" y="0"/>
                </a:lnTo>
                <a:lnTo>
                  <a:pt x="2350627" y="3820866"/>
                </a:lnTo>
                <a:lnTo>
                  <a:pt x="82091" y="3820866"/>
                </a:lnTo>
                <a:cubicBezTo>
                  <a:pt x="36754" y="3820866"/>
                  <a:pt x="1" y="3784113"/>
                  <a:pt x="0" y="3738776"/>
                </a:cubicBezTo>
                <a:lnTo>
                  <a:pt x="1" y="35552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 rot="900000">
            <a:off x="9170640" y="376092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8718E-9949-45BF-8704-186B85189F3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 rot="900000">
            <a:off x="9408600" y="3170160"/>
            <a:ext cx="2568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 rot="900000">
            <a:off x="9567360" y="2660400"/>
            <a:ext cx="91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63F7-575C-4543-9D73-0D1A7D11346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Rounded Rectangle 16"/>
          <p:cNvSpPr/>
          <p:nvPr/>
        </p:nvSpPr>
        <p:spPr>
          <a:xfrm rot="20707200">
            <a:off x="-1177560" y="-625320"/>
            <a:ext cx="992016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Rounded Rectangle 17"/>
          <p:cNvSpPr/>
          <p:nvPr/>
        </p:nvSpPr>
        <p:spPr>
          <a:xfrm rot="20707200">
            <a:off x="4316400" y="6275520"/>
            <a:ext cx="585000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3" name="Rounded Rectangle 18"/>
          <p:cNvSpPr/>
          <p:nvPr/>
        </p:nvSpPr>
        <p:spPr>
          <a:xfrm rot="20707200">
            <a:off x="10213920" y="5462640"/>
            <a:ext cx="227988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4" name="Rounded Rectangle 19"/>
          <p:cNvSpPr/>
          <p:nvPr/>
        </p:nvSpPr>
        <p:spPr>
          <a:xfrm rot="20707200">
            <a:off x="8889480" y="-490680"/>
            <a:ext cx="408636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 rot="20700000">
            <a:off x="10340280" y="5888160"/>
            <a:ext cx="1655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7EA-82E5-4795-8C0D-09CE6A8E25E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 rot="20700000">
            <a:off x="5405040" y="5494320"/>
            <a:ext cx="4165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 rot="20700000">
            <a:off x="10253160" y="5643720"/>
            <a:ext cx="1656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97C6-3DF9-4DC8-8999-4215791EB5E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27" name="Rounded Rectangle 52"/>
          <p:cNvSpPr/>
          <p:nvPr/>
        </p:nvSpPr>
        <p:spPr>
          <a:xfrm rot="20707200">
            <a:off x="-1177560" y="-625320"/>
            <a:ext cx="9920160" cy="7343640"/>
          </a:xfrm>
          <a:custGeom>
            <a:avLst/>
            <a:gdLst/>
            <a:ahLst/>
            <a:rect l="l" t="t" r="r" b="b"/>
            <a:pathLst>
              <a:path w="7439907" h="7344599">
                <a:moveTo>
                  <a:pt x="1760047" y="0"/>
                </a:moveTo>
                <a:lnTo>
                  <a:pt x="7439906" y="1508202"/>
                </a:lnTo>
                <a:lnTo>
                  <a:pt x="7439907" y="7262509"/>
                </a:lnTo>
                <a:cubicBezTo>
                  <a:pt x="7439906" y="7307846"/>
                  <a:pt x="7403153" y="7344599"/>
                  <a:pt x="7357816" y="7344599"/>
                </a:cubicBezTo>
                <a:lnTo>
                  <a:pt x="2697558" y="7344599"/>
                </a:lnTo>
                <a:lnTo>
                  <a:pt x="0" y="6628303"/>
                </a:lnTo>
                <a:lnTo>
                  <a:pt x="1760047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Rounded Rectangle 53"/>
          <p:cNvSpPr/>
          <p:nvPr/>
        </p:nvSpPr>
        <p:spPr>
          <a:xfrm rot="20707200">
            <a:off x="4316400" y="6275520"/>
            <a:ext cx="5850000" cy="1164960"/>
          </a:xfrm>
          <a:custGeom>
            <a:avLst/>
            <a:gdLst/>
            <a:ahLst/>
            <a:rect l="l" t="t" r="r" b="b"/>
            <a:pathLst>
              <a:path w="4387395" h="1165008">
                <a:moveTo>
                  <a:pt x="4337258" y="6451"/>
                </a:moveTo>
                <a:cubicBezTo>
                  <a:pt x="4366722" y="18913"/>
                  <a:pt x="4387395" y="48087"/>
                  <a:pt x="4387395" y="82090"/>
                </a:cubicBezTo>
                <a:lnTo>
                  <a:pt x="4387395" y="1165008"/>
                </a:lnTo>
                <a:lnTo>
                  <a:pt x="0" y="0"/>
                </a:lnTo>
                <a:lnTo>
                  <a:pt x="4305305" y="0"/>
                </a:lnTo>
                <a:cubicBezTo>
                  <a:pt x="4316639" y="0"/>
                  <a:pt x="4327437" y="2297"/>
                  <a:pt x="4337258" y="6451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9" name="Rounded Rectangle 54"/>
          <p:cNvSpPr/>
          <p:nvPr/>
        </p:nvSpPr>
        <p:spPr>
          <a:xfrm rot="20707200">
            <a:off x="10213920" y="5462640"/>
            <a:ext cx="2279880" cy="1535040"/>
          </a:xfrm>
          <a:custGeom>
            <a:avLst/>
            <a:gdLst/>
            <a:ahLst/>
            <a:rect l="l" t="t" r="r" b="b"/>
            <a:pathLst>
              <a:path w="1709024" h="1536003">
                <a:moveTo>
                  <a:pt x="1709024" y="0"/>
                </a:moveTo>
                <a:lnTo>
                  <a:pt x="1301161" y="1536003"/>
                </a:lnTo>
                <a:lnTo>
                  <a:pt x="0" y="119050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4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Rounded Rectangle 55"/>
          <p:cNvSpPr/>
          <p:nvPr/>
        </p:nvSpPr>
        <p:spPr>
          <a:xfrm rot="20707200">
            <a:off x="8889480" y="-490680"/>
            <a:ext cx="4086360" cy="5811840"/>
          </a:xfrm>
          <a:custGeom>
            <a:avLst/>
            <a:gdLst/>
            <a:ahLst/>
            <a:rect l="l" t="t" r="r" b="b"/>
            <a:pathLst>
              <a:path w="3064333" h="5811872">
                <a:moveTo>
                  <a:pt x="0" y="0"/>
                </a:moveTo>
                <a:lnTo>
                  <a:pt x="3064333" y="813688"/>
                </a:lnTo>
                <a:lnTo>
                  <a:pt x="1737140" y="5811872"/>
                </a:lnTo>
                <a:lnTo>
                  <a:pt x="82090" y="5811872"/>
                </a:lnTo>
                <a:cubicBezTo>
                  <a:pt x="36753" y="5811872"/>
                  <a:pt x="0" y="5775119"/>
                  <a:pt x="0" y="5729782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 rot="20700000">
            <a:off x="10338840" y="5888160"/>
            <a:ext cx="165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B6175-A5B5-40CD-BD9D-B9DF36AA512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 rot="20700000">
            <a:off x="5400360" y="5495400"/>
            <a:ext cx="41655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 rot="20700000">
            <a:off x="10253160" y="5641560"/>
            <a:ext cx="16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D3CA0-BA0B-4A2E-A312-C11343EA11EA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273" name="Rounded Rectangle 20"/>
          <p:cNvSpPr/>
          <p:nvPr/>
        </p:nvSpPr>
        <p:spPr>
          <a:xfrm rot="907200">
            <a:off x="-1154160" y="850680"/>
            <a:ext cx="4821120" cy="6151320"/>
          </a:xfrm>
          <a:custGeom>
            <a:avLst/>
            <a:gdLst/>
            <a:ahLst/>
            <a:rect l="l" t="t" r="r" b="b"/>
            <a:pathLst>
              <a:path w="3615441" h="6151724">
                <a:moveTo>
                  <a:pt x="0" y="0"/>
                </a:moveTo>
                <a:lnTo>
                  <a:pt x="3533351" y="0"/>
                </a:lnTo>
                <a:cubicBezTo>
                  <a:pt x="3578688" y="0"/>
                  <a:pt x="3615441" y="36753"/>
                  <a:pt x="3615441" y="82090"/>
                </a:cubicBezTo>
                <a:lnTo>
                  <a:pt x="3615441" y="5623909"/>
                </a:lnTo>
                <a:lnTo>
                  <a:pt x="1663219" y="6151724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Rounded Rectangle 21"/>
          <p:cNvSpPr/>
          <p:nvPr/>
        </p:nvSpPr>
        <p:spPr>
          <a:xfrm rot="907200">
            <a:off x="23400" y="-510840"/>
            <a:ext cx="4979880" cy="1387440"/>
          </a:xfrm>
          <a:custGeom>
            <a:avLst/>
            <a:gdLst/>
            <a:ahLst/>
            <a:rect l="l" t="t" r="r" b="b"/>
            <a:pathLst>
              <a:path w="3735394" h="1387781">
                <a:moveTo>
                  <a:pt x="0" y="1009924"/>
                </a:moveTo>
                <a:lnTo>
                  <a:pt x="3735394" y="0"/>
                </a:lnTo>
                <a:lnTo>
                  <a:pt x="3735394" y="1305691"/>
                </a:lnTo>
                <a:cubicBezTo>
                  <a:pt x="3735394" y="1351028"/>
                  <a:pt x="3698641" y="1387781"/>
                  <a:pt x="3653304" y="1387781"/>
                </a:cubicBezTo>
                <a:lnTo>
                  <a:pt x="102160" y="1387781"/>
                </a:lnTo>
                <a:lnTo>
                  <a:pt x="0" y="1009924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Rounded Rectangle 22"/>
          <p:cNvSpPr/>
          <p:nvPr/>
        </p:nvSpPr>
        <p:spPr>
          <a:xfrm rot="907200">
            <a:off x="2862000" y="6589800"/>
            <a:ext cx="2641680" cy="536400"/>
          </a:xfrm>
          <a:custGeom>
            <a:avLst/>
            <a:gdLst/>
            <a:ahLst/>
            <a:rect l="l" t="t" r="r" b="b"/>
            <a:pathLst>
              <a:path w="1981025" h="535602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81025" y="0"/>
                </a:lnTo>
                <a:lnTo>
                  <a:pt x="0" y="535602"/>
                </a:lnTo>
                <a:lnTo>
                  <a:pt x="0" y="82090"/>
                </a:lnTo>
                <a:cubicBezTo>
                  <a:pt x="0" y="48087"/>
                  <a:pt x="20674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Rounded Rectangle 23"/>
          <p:cNvSpPr/>
          <p:nvPr/>
        </p:nvSpPr>
        <p:spPr>
          <a:xfrm rot="907200">
            <a:off x="4246200" y="-553680"/>
            <a:ext cx="9043920" cy="7826400"/>
          </a:xfrm>
          <a:custGeom>
            <a:avLst/>
            <a:gdLst/>
            <a:ahLst/>
            <a:rect l="l" t="t" r="r" b="b"/>
            <a:pathLst>
              <a:path w="6782931" h="7826540">
                <a:moveTo>
                  <a:pt x="0" y="1349945"/>
                </a:moveTo>
                <a:lnTo>
                  <a:pt x="4993024" y="0"/>
                </a:lnTo>
                <a:lnTo>
                  <a:pt x="6782931" y="6620302"/>
                </a:lnTo>
                <a:lnTo>
                  <a:pt x="2321435" y="7826540"/>
                </a:lnTo>
                <a:lnTo>
                  <a:pt x="82090" y="7826540"/>
                </a:lnTo>
                <a:cubicBezTo>
                  <a:pt x="36753" y="7826540"/>
                  <a:pt x="0" y="7789787"/>
                  <a:pt x="0" y="7744450"/>
                </a:cubicBezTo>
                <a:lnTo>
                  <a:pt x="0" y="1349945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 rot="900000">
            <a:off x="2255040" y="612360"/>
            <a:ext cx="2389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11A17-EF7F-4A38-AA9D-6582CC3108B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 rot="900000">
            <a:off x="3324240" y="6100560"/>
            <a:ext cx="4070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 rot="900000">
            <a:off x="1681920" y="301320"/>
            <a:ext cx="304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CCDB6-5283-4CEB-B3A6-149B2EA348E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19" name="Rounded Rectangle 11"/>
          <p:cNvSpPr/>
          <p:nvPr/>
        </p:nvSpPr>
        <p:spPr>
          <a:xfrm rot="900000">
            <a:off x="-496800" y="-1217160"/>
            <a:ext cx="11437920" cy="6343560"/>
          </a:xfrm>
          <a:custGeom>
            <a:avLst/>
            <a:gdLst/>
            <a:ahLst/>
            <a:rect l="l" t="t" r="r" b="b"/>
            <a:pathLst>
              <a:path w="8577953" h="6344114">
                <a:moveTo>
                  <a:pt x="0" y="2298455"/>
                </a:moveTo>
                <a:lnTo>
                  <a:pt x="8577953" y="0"/>
                </a:lnTo>
                <a:lnTo>
                  <a:pt x="8577953" y="6262024"/>
                </a:lnTo>
                <a:cubicBezTo>
                  <a:pt x="8577953" y="6307361"/>
                  <a:pt x="8541200" y="6344113"/>
                  <a:pt x="8495863" y="6344113"/>
                </a:cubicBezTo>
                <a:lnTo>
                  <a:pt x="1084031" y="6344114"/>
                </a:lnTo>
                <a:lnTo>
                  <a:pt x="0" y="2298455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Rounded Rectangle 12"/>
          <p:cNvSpPr/>
          <p:nvPr/>
        </p:nvSpPr>
        <p:spPr>
          <a:xfrm rot="900000">
            <a:off x="-598320" y="5208120"/>
            <a:ext cx="9959760" cy="2486160"/>
          </a:xfrm>
          <a:custGeom>
            <a:avLst/>
            <a:gdLst/>
            <a:ahLst/>
            <a:rect l="l" t="t" r="r" b="b"/>
            <a:pathLst>
              <a:path w="7470000" h="2486713">
                <a:moveTo>
                  <a:pt x="0" y="0"/>
                </a:moveTo>
                <a:lnTo>
                  <a:pt x="7387910" y="0"/>
                </a:lnTo>
                <a:cubicBezTo>
                  <a:pt x="7433247" y="0"/>
                  <a:pt x="7470000" y="36753"/>
                  <a:pt x="7470000" y="82090"/>
                </a:cubicBezTo>
                <a:lnTo>
                  <a:pt x="7470000" y="663670"/>
                </a:lnTo>
                <a:lnTo>
                  <a:pt x="666313" y="2486713"/>
                </a:ln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Rounded Rectangle 13"/>
          <p:cNvSpPr/>
          <p:nvPr/>
        </p:nvSpPr>
        <p:spPr>
          <a:xfrm rot="900000">
            <a:off x="9589680" y="6483240"/>
            <a:ext cx="2576520" cy="635040"/>
          </a:xfrm>
          <a:custGeom>
            <a:avLst/>
            <a:gdLst/>
            <a:ahLst/>
            <a:rect l="l" t="t" r="r" b="b"/>
            <a:pathLst>
              <a:path w="1932834" h="635630">
                <a:moveTo>
                  <a:pt x="50137" y="6451"/>
                </a:moveTo>
                <a:cubicBezTo>
                  <a:pt x="59958" y="2297"/>
                  <a:pt x="70756" y="0"/>
                  <a:pt x="82090" y="0"/>
                </a:cubicBezTo>
                <a:lnTo>
                  <a:pt x="1901288" y="0"/>
                </a:lnTo>
                <a:lnTo>
                  <a:pt x="1932834" y="117729"/>
                </a:lnTo>
                <a:lnTo>
                  <a:pt x="0" y="635630"/>
                </a:lnTo>
                <a:lnTo>
                  <a:pt x="0" y="82090"/>
                </a:lnTo>
                <a:cubicBezTo>
                  <a:pt x="0" y="48087"/>
                  <a:pt x="20673" y="18913"/>
                  <a:pt x="50137" y="6451"/>
                </a:cubicBez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Rounded Rectangle 14"/>
          <p:cNvSpPr/>
          <p:nvPr/>
        </p:nvSpPr>
        <p:spPr>
          <a:xfrm rot="900000">
            <a:off x="10836000" y="91800"/>
            <a:ext cx="2504880" cy="6414840"/>
          </a:xfrm>
          <a:custGeom>
            <a:avLst/>
            <a:gdLst/>
            <a:ahLst/>
            <a:rect l="l" t="t" r="r" b="b"/>
            <a:pathLst>
              <a:path w="1878991" h="6414233">
                <a:moveTo>
                  <a:pt x="0" y="42953"/>
                </a:moveTo>
                <a:lnTo>
                  <a:pt x="160303" y="0"/>
                </a:lnTo>
                <a:lnTo>
                  <a:pt x="1878991" y="6414233"/>
                </a:lnTo>
                <a:lnTo>
                  <a:pt x="82090" y="6414233"/>
                </a:lnTo>
                <a:cubicBezTo>
                  <a:pt x="36753" y="6414233"/>
                  <a:pt x="0" y="6377480"/>
                  <a:pt x="0" y="6332143"/>
                </a:cubicBezTo>
                <a:lnTo>
                  <a:pt x="0" y="42953"/>
                </a:ln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 type="dt" idx="22"/>
          </p:nvPr>
        </p:nvSpPr>
        <p:spPr>
          <a:xfrm rot="900000">
            <a:off x="10029600" y="5927760"/>
            <a:ext cx="203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9EDA-C6AA-4E83-A779-94B7202A4C5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 type="ftr" idx="23"/>
          </p:nvPr>
        </p:nvSpPr>
        <p:spPr>
          <a:xfrm rot="900000">
            <a:off x="5189040" y="5987520"/>
            <a:ext cx="4165560" cy="2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 type="sldNum" idx="24"/>
          </p:nvPr>
        </p:nvSpPr>
        <p:spPr>
          <a:xfrm rot="900000">
            <a:off x="10130760" y="5570640"/>
            <a:ext cx="95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5742-5C3E-40BA-9F2D-7423FB9C841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6" descr="Scan1080Base.png"/>
          <p:cNvPicPr/>
          <p:nvPr/>
        </p:nvPicPr>
        <p:blipFill>
          <a:blip r:embed="rId3">
            <a:lum bright="-38000"/>
          </a:blip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Rounded Rectangle 12"/>
          <p:cNvSpPr/>
          <p:nvPr/>
        </p:nvSpPr>
        <p:spPr>
          <a:xfrm rot="20707200">
            <a:off x="-1197000" y="-623880"/>
            <a:ext cx="9717120" cy="6040440"/>
          </a:xfrm>
          <a:custGeom>
            <a:avLst/>
            <a:gdLst/>
            <a:ahLst/>
            <a:rect l="l" t="t" r="r" b="b"/>
            <a:pathLst>
              <a:path w="7286946" h="6041338">
                <a:moveTo>
                  <a:pt x="1604186" y="0"/>
                </a:moveTo>
                <a:lnTo>
                  <a:pt x="7286946" y="1508972"/>
                </a:lnTo>
                <a:lnTo>
                  <a:pt x="7286946" y="5959247"/>
                </a:lnTo>
                <a:cubicBezTo>
                  <a:pt x="7286946" y="6004584"/>
                  <a:pt x="7250193" y="6041337"/>
                  <a:pt x="7204856" y="6041337"/>
                </a:cubicBezTo>
                <a:lnTo>
                  <a:pt x="0" y="6041338"/>
                </a:lnTo>
                <a:lnTo>
                  <a:pt x="1604186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Rounded Rectangle 13"/>
          <p:cNvSpPr/>
          <p:nvPr/>
        </p:nvSpPr>
        <p:spPr>
          <a:xfrm rot="20707200">
            <a:off x="85320" y="5378040"/>
            <a:ext cx="9925200" cy="2476440"/>
          </a:xfrm>
          <a:custGeom>
            <a:avLst/>
            <a:gdLst/>
            <a:ahLst/>
            <a:rect l="l" t="t" r="r" b="b"/>
            <a:pathLst>
              <a:path w="7443151" h="2476431">
                <a:moveTo>
                  <a:pt x="7393013" y="6452"/>
                </a:moveTo>
                <a:cubicBezTo>
                  <a:pt x="7422477" y="18914"/>
                  <a:pt x="7443150" y="48087"/>
                  <a:pt x="7443150" y="82090"/>
                </a:cubicBezTo>
                <a:lnTo>
                  <a:pt x="7443151" y="2476431"/>
                </a:lnTo>
                <a:lnTo>
                  <a:pt x="0" y="500014"/>
                </a:lnTo>
                <a:lnTo>
                  <a:pt x="132771" y="1"/>
                </a:lnTo>
                <a:lnTo>
                  <a:pt x="7361060" y="1"/>
                </a:lnTo>
                <a:cubicBezTo>
                  <a:pt x="7372394" y="0"/>
                  <a:pt x="7383192" y="2298"/>
                  <a:pt x="7393013" y="6452"/>
                </a:cubicBezTo>
                <a:close/>
              </a:path>
            </a:pathLst>
          </a:custGeom>
          <a:solidFill>
            <a:srgbClr val="000000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Rounded Rectangle 14"/>
          <p:cNvSpPr/>
          <p:nvPr/>
        </p:nvSpPr>
        <p:spPr>
          <a:xfrm rot="20707200">
            <a:off x="10213920" y="5459400"/>
            <a:ext cx="2279880" cy="1538280"/>
          </a:xfrm>
          <a:custGeom>
            <a:avLst/>
            <a:gdLst/>
            <a:ahLst/>
            <a:rect l="l" t="t" r="r" b="b"/>
            <a:pathLst>
              <a:path w="1709023" h="1538302">
                <a:moveTo>
                  <a:pt x="1709023" y="0"/>
                </a:moveTo>
                <a:lnTo>
                  <a:pt x="1300550" y="1538302"/>
                </a:lnTo>
                <a:lnTo>
                  <a:pt x="0" y="1192960"/>
                </a:lnTo>
                <a:lnTo>
                  <a:pt x="0" y="82090"/>
                </a:lnTo>
                <a:cubicBezTo>
                  <a:pt x="0" y="36753"/>
                  <a:pt x="36753" y="0"/>
                  <a:pt x="82090" y="0"/>
                </a:cubicBezTo>
                <a:lnTo>
                  <a:pt x="1709023" y="0"/>
                </a:lnTo>
                <a:close/>
              </a:path>
            </a:pathLst>
          </a:custGeom>
          <a:solidFill>
            <a:srgbClr val="000000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8" name="Rounded Rectangle 15"/>
          <p:cNvSpPr/>
          <p:nvPr/>
        </p:nvSpPr>
        <p:spPr>
          <a:xfrm rot="20707200">
            <a:off x="8897760" y="-490680"/>
            <a:ext cx="4078440" cy="5810400"/>
          </a:xfrm>
          <a:custGeom>
            <a:avLst/>
            <a:gdLst/>
            <a:ahLst/>
            <a:rect l="l" t="t" r="r" b="b"/>
            <a:pathLst>
              <a:path w="3059119" h="5809409">
                <a:moveTo>
                  <a:pt x="0" y="0"/>
                </a:moveTo>
                <a:lnTo>
                  <a:pt x="3059119" y="812303"/>
                </a:lnTo>
                <a:lnTo>
                  <a:pt x="1732212" y="5809409"/>
                </a:lnTo>
                <a:lnTo>
                  <a:pt x="82090" y="5809409"/>
                </a:lnTo>
                <a:cubicBezTo>
                  <a:pt x="36753" y="5809409"/>
                  <a:pt x="0" y="5772656"/>
                  <a:pt x="0" y="5727319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 rot="16200000">
            <a:off x="-12240" y="2500920"/>
            <a:ext cx="5321520" cy="24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ockwel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876920" y="990720"/>
            <a:ext cx="6702480" cy="478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1" marL="730080" indent="-3650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2" marL="1096920" indent="-31896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3" marL="137160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4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5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lvl="6" marL="1644480" indent="-27288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Rockwel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 rot="20700000">
            <a:off x="10338840" y="5888160"/>
            <a:ext cx="1657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413B-2826-4176-9339-6CEE9A44C58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 rot="20700000">
            <a:off x="5684400" y="6099120"/>
            <a:ext cx="4084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 rot="20700000">
            <a:off x="10253160" y="5641560"/>
            <a:ext cx="165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EC97-8B3E-4DE8-99E7-89F2FD79706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 rot="20700000">
            <a:off x="729720" y="3631680"/>
            <a:ext cx="7980480" cy="160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lnSpc>
                <a:spcPts val="59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Rockwell"/>
              </a:rPr>
              <a:t>¿Cuál palabra de vocabulario es?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 rot="20700000">
            <a:off x="2935080" y="5027400"/>
            <a:ext cx="6207120" cy="112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1-3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	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2</a:t>
            </a:r>
            <a:r>
              <a:rPr b="0" lang="en-US" sz="2400" spc="-1" strike="noStrike" baseline="30000">
                <a:solidFill>
                  <a:srgbClr val="f3eade"/>
                </a:solidFill>
                <a:latin typeface="Rockwell"/>
              </a:rPr>
              <a:t>nd</a:t>
            </a:r>
            <a:r>
              <a:rPr b="0" lang="en-US" sz="2400" spc="-1" strike="noStrike">
                <a:solidFill>
                  <a:srgbClr val="f3eade"/>
                </a:solidFill>
                <a:latin typeface="Rockwell"/>
              </a:rPr>
              <a:t> Year</a:t>
            </a:r>
            <a:endParaRPr b="0" lang="en-US" sz="2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och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4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a persona que toma las cosas sin permiso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ladrón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5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nuev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6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“</a:t>
            </a: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Cacahuates” es un ejemplo de esto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La tira cómic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5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diez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8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información verdader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hecho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on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0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 verbo. Un mesero en un restaurante hace esto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Servir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do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2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a expresión. Tú la dices cuando ya sabes la información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¡Ya lo sé!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tre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4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80000"/>
              </a:lnSpc>
              <a:spcBef>
                <a:spcPts val="1001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de4f1"/>
                </a:solidFill>
                <a:latin typeface="Rockwell"/>
              </a:rPr>
              <a:t>Esta palabra describe una persona que sabe mucha información. Esta persona probablemente lee mucho y ve muchas programas informativos.</a:t>
            </a:r>
            <a:endParaRPr b="0" lang="en-US" sz="40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80000"/>
              </a:lnSpc>
              <a:spcBef>
                <a:spcPts val="10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6585cf"/>
                </a:solidFill>
                <a:latin typeface="Rockwell"/>
              </a:rPr>
              <a:t>Etar bien informado</a:t>
            </a:r>
            <a:endParaRPr b="0" lang="en-US" sz="42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5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cator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6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 verbo. Es cuando una persona salva la vida de otra person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Rescatar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5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030a0"/>
                </a:solidFill>
                <a:latin typeface="Rockwell"/>
              </a:rPr>
              <a:t>Número quinc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88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026"/>
              </a:spcBef>
              <a:spcAft>
                <a:spcPts val="601"/>
              </a:spcAft>
              <a:buClr>
                <a:srgbClr val="ffffff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n-US" sz="4100" spc="-1" strike="noStrike">
                <a:solidFill>
                  <a:srgbClr val="ffffff"/>
                </a:solidFill>
                <a:latin typeface="Rockwell"/>
              </a:rPr>
              <a:t>Es una palabra que signifíca lo mismo que “propoganda.” Es algo que le da información sobre un producto para venderlo. </a:t>
            </a:r>
            <a:endParaRPr b="0" lang="en-US" sz="41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026"/>
              </a:spcBef>
              <a:spcAft>
                <a:spcPts val="601"/>
              </a:spcAft>
              <a:buClr>
                <a:srgbClr val="0070c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70c0"/>
                </a:solidFill>
                <a:latin typeface="Rockwell"/>
              </a:rPr>
              <a:t>El anuncio</a:t>
            </a:r>
            <a:endParaRPr b="0" lang="en-US" sz="41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6" dur="5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10134720" cy="13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79bb"/>
                </a:solidFill>
                <a:latin typeface="Rockwell"/>
              </a:rPr>
              <a:t>Materiales  Y Reglas 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1218960" y="1234800"/>
            <a:ext cx="10713960" cy="557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8000"/>
          </a:bodyPr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e4f1"/>
                </a:solidFill>
                <a:latin typeface="Rockwell"/>
              </a:rPr>
              <a:t>Everyone needs a whiteboard and marker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585cf"/>
                </a:solidFill>
                <a:latin typeface="Rockwell"/>
              </a:rPr>
              <a:t>You will hear and see a description in Spanish. Using your new vocabulary, select the word that is best described by the sentence. 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e4f1"/>
                </a:solidFill>
                <a:latin typeface="Rockwell"/>
              </a:rPr>
              <a:t>Write the word down. Do not show your group.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585cf"/>
                </a:solidFill>
                <a:latin typeface="Rockwell"/>
              </a:rPr>
              <a:t>When you hear me say “Muéstrame,” show me your answers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de4f1"/>
                </a:solidFill>
                <a:latin typeface="Rockwell"/>
              </a:rPr>
              <a:t>1 pt. – Correct Answer  / 0 pts. – Incorrect answer 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eb966"/>
                </a:solidFill>
                <a:latin typeface="Rockwell"/>
              </a:rPr>
              <a:t>Your answer may be logical, but it must match the answer given in order to gain a point.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  <a:p>
            <a:pPr marL="357480" indent="-357480">
              <a:spcBef>
                <a:spcPts val="700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6585cf"/>
                </a:solidFill>
                <a:latin typeface="Rockwell"/>
              </a:rPr>
              <a:t>Keep track of your own points. How do you  win? Get the most points in your group! Keep your group members honest!</a:t>
            </a:r>
            <a:endParaRPr b="0" lang="en-US" sz="28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5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5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5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5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5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" dur="2000"/>
                                        <p:tgtEl>
                                          <p:spTgt spid="5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un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0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a persona que ve algo en la tele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televidente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do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2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cosa que se usa para sacar una fotografí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La cámar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tre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4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persona que salva el día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 héroe o la heroin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cuatr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6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persona que escribe para un periódico o una revista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El/la periodist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5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cinco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68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lnSpc>
                <a:spcPct val="90000"/>
              </a:lnSpc>
              <a:spcBef>
                <a:spcPts val="1026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100" spc="-1" strike="noStrike">
                <a:solidFill>
                  <a:srgbClr val="ede4f1"/>
                </a:solidFill>
                <a:latin typeface="Rockwell"/>
              </a:rPr>
              <a:t>Lo que una persona puede ver en la tele por la mañana o por la noche. Le da información importante sobre la comunidad o el mundo. </a:t>
            </a:r>
            <a:endParaRPr b="0" lang="en-US" sz="41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lnSpc>
                <a:spcPct val="90000"/>
              </a:lnSpc>
              <a:spcBef>
                <a:spcPts val="1151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6585cf"/>
                </a:solidFill>
                <a:latin typeface="Rockwell"/>
              </a:rPr>
              <a:t>Las noticias</a:t>
            </a:r>
            <a:endParaRPr b="0" lang="en-US" sz="46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seis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0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la razón que algo ocurre. 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La causa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5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 rot="17100000">
            <a:off x="-1080" y="2639160"/>
            <a:ext cx="5065920" cy="226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a379bb"/>
                </a:solidFill>
                <a:latin typeface="Rockwell"/>
              </a:rPr>
              <a:t>Número siete</a:t>
            </a:r>
            <a:endParaRPr b="0" lang="en-US" sz="4400" spc="-1" strike="noStrike">
              <a:solidFill>
                <a:srgbClr val="ffffff"/>
              </a:solidFill>
              <a:latin typeface="Rockwell"/>
            </a:endParaRPr>
          </a:p>
        </p:txBody>
      </p:sp>
      <p:sp>
        <p:nvSpPr>
          <p:cNvPr id="572" name=""/>
          <p:cNvSpPr txBox="1"/>
          <p:nvPr/>
        </p:nvSpPr>
        <p:spPr>
          <a:xfrm rot="900000">
            <a:off x="4638240" y="960120"/>
            <a:ext cx="6211800" cy="50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ede4f1"/>
                </a:solidFill>
                <a:latin typeface="Rockwell"/>
              </a:rPr>
              <a:t>Es un verbo. Es el opuesto de vivir.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  <a:p>
            <a:pPr marL="365040" indent="-365040">
              <a:spcBef>
                <a:spcPts val="1349"/>
              </a:spcBef>
              <a:buClr>
                <a:srgbClr val="375bb0"/>
              </a:buClr>
              <a:buSzPct val="160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585cf"/>
                </a:solidFill>
                <a:latin typeface="Rockwell"/>
              </a:rPr>
              <a:t>Morir</a:t>
            </a:r>
            <a:endParaRPr b="0" lang="en-US" sz="5400" spc="-1" strike="noStrike">
              <a:solidFill>
                <a:srgbClr val="ffffff"/>
              </a:solidFill>
              <a:latin typeface="Rockwell"/>
            </a:endParaRPr>
          </a:p>
        </p:txBody>
      </p:sp>
    </p:spTree>
  </p:cSld>
  <p:transition spd="med">
    <p:fade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3-04-16T13:38:46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4606169991</vt:lpwstr>
  </property>
</Properties>
</file>